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303-4A00-4220-B4B9-91F860D8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F82-3B65-4E1E-AC55-E7DB7AC9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6EF-6D48-4D59-A761-B04BA064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729-3089-42C3-A19B-2994955D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04BA-3C1A-4720-B641-E4F78C70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5BCD-4565-46D1-A135-0D91381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BA91-702D-42F5-883B-EC9F2349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E913-4A5C-4DA2-A366-76CFBC14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FF17-F9D1-428D-BE6A-647522B0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C4B8-15C5-40B8-8891-4B301223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420D-103D-4DE8-8AF8-760ED390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E88-328C-4935-9855-B0DA9708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A2DF-ADDA-410D-A0B7-BFC79DFF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7BD-A39D-463E-BE05-6C7A21E1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9059-D8E9-4D09-8D9C-BCF6D61F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ADA6-1FA2-4EA7-88A5-92085A5F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3937-2DB8-40B4-AF49-BD3B83A5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39B-4487-424C-AC64-B2E063F5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05C-5B64-4177-9DE3-9F935A0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828-2FD6-4A94-947E-D42C049E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B54-79E8-43D2-B5F2-A0A47012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E50-4F7C-4D31-B358-BF09DF5F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AD6-819F-435B-BA3C-D3F5917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86D-E6F1-4CB6-9625-91B2EFB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4C6-D5C9-46B2-A506-B50DBF98D503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C888-676F-466F-96DD-2A21E69CC191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llbhuna.co.uk/images/" TargetMode="External"/><Relationship Id="rId2" Type="http://schemas.openxmlformats.org/officeDocument/2006/relationships/hyperlink" Target="http://www.acmepro.eu/en/catalog/speaker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66"/>
                </a:solidFill>
                <a:latin typeface="Arial"/>
              </a:rPr>
              <a:t>Interfenţa undelor mecanice. Unde staţionare. Aplicaţi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ezentare - el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38080" y="3657600"/>
            <a:ext cx="7809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09480" y="1763640"/>
            <a:ext cx="44197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.Ce rost are să studiem undel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Unde se întâlneşte i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ferenţa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35049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533520" y="2743200"/>
            <a:ext cx="53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numeşte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</a:rPr>
              <a:t>interferenţă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compunerea mai multor unde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2403360" cy="1614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Interferenţa undelor mecanic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865080" y="175248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terferenţa pe o coardă duce la formarea undelor staţionar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Unde staţionare pe o coardă elastică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79396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3448080" cy="164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30448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Armonici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2157120" cy="315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3657600" y="3276720"/>
            <a:ext cx="4734000" cy="2828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865080" y="1752480"/>
            <a:ext cx="8278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 coardă care vibrează emite, alături de armonica fundamentală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 armonici, de frecvenţe duble, triple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Tuburi sonor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65080" y="1752480"/>
            <a:ext cx="8278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3200400" cy="23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5381640" cy="222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2109960" cy="27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4495680" y="4267080"/>
            <a:ext cx="3505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Caracteristicile sunetelor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65080" y="1752480"/>
            <a:ext cx="8278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acteristicile sunetelor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ălţi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tensit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imbru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54312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Bibliografi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fullbhuna.co.uk/images/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://www.acmepro.eu/en/catalog/speakers/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critube.com/stiinta/fizica/Surse-sonore15415102111.ph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d3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caziuc.ro/Orga_harman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drobetaturnuseverin.olx.ro/vand-pian-orga-electronica-cu-clape-yamaha-psr-220-iid-32545307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2-15T20:10:00Z</dcterms:modified>
  <cp:revision>406</cp:revision>
  <dc:subject/>
  <dc:title>Evaluare_initiala</dc:title>
</cp:coreProperties>
</file>